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6D2-B6C5-4749-A61C-BF82FF1D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D0C-5436-42E4-A6A5-A7366466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F9A-2D3E-4423-B28E-9745AD16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9645-80BA-48D3-AFD6-4548BCF1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2FE3-AF4C-4562-9B0C-245A64A6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31A4-C67D-4108-9C2D-CFE7BA35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6150-38F8-4337-A489-30D732B2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2DC3-1696-4BD6-AA5C-422F12F7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1072-69BA-40D0-B494-68650300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6917-05D6-411B-B9A2-95C6DB1A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E9CA-ACE9-4329-9F42-38BD1DAA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9DB-F66F-4592-89CF-D4B0B767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EFB8-56F3-4657-8CD4-6E098254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9DB7-18B6-42EE-B081-71E677D4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7FDA-A5A2-4055-8980-2733A545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9ADF-4BB2-45DD-B9C8-4CF4D0EA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9FE8-F162-434E-97B1-FC432886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9FC-6544-4DEA-BE11-84C3BD8B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090-E136-416B-89DE-C5AF10A6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DC7-D96D-42AB-BAC1-DF0657BD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DFE-F61B-43CF-8B02-85256154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07A-F588-4096-954D-69213BBE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3FC-84C0-4241-82C3-4FA6EAD3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6AE-014A-4890-B1F8-DCCB3777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D623-EDF7-4491-8CE8-282AF25AC0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08E0-26F8-4704-A85F-2A74EAA0F5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65680" y="457200"/>
          <a:ext cx="141120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5680" y="457200"/>
                    <a:ext cx="141120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600" y="2789280"/>
            <a:ext cx="863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492b0"/>
                </a:solidFill>
                <a:latin typeface="Arial Black"/>
              </a:rPr>
              <a:t>Group 4 Proj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Types of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sign and carry out lab investigation or field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Collate, manipulate and analyse data from other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sign and use a model or si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617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Example of Process to Identify a group 4 Project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09700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Step 1: Identify major topics: e.g., body, pollution, water, recycling, air, energy, nutrition, waste, agricul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tep 2: concentrate on a few topics: Pollution, Agriculture, nutr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Step 3: Narrow topic down to one: e.g., Agriculture</a:t>
            </a: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of Process to Identify a group 4 Project (cont.)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Step 4: Narrow it down to a focused question, e.g., How can agriculture help reduce pollution?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Step 5: Students in each subject come up with issues in their own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and create a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Step 6: Students in each subject narrow these down to what they can collect in terms of data and investig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~AUT0029" descr=""/>
          <p:cNvPicPr/>
          <p:nvPr/>
        </p:nvPicPr>
        <p:blipFill>
          <a:blip r:embed="rId1"/>
          <a:stretch/>
        </p:blipFill>
        <p:spPr>
          <a:xfrm>
            <a:off x="1295280" y="0"/>
            <a:ext cx="723924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road Topic: Sick Building Syndro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Black"/>
              </a:rPr>
              <a:t>Focused Question: How do the environmental conditions in a given building cause illnes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Biology issues:</a:t>
            </a: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  Survey of symptoms, research into existing medical data: studies of respiratory illnesses, research on organisms --cause/eff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Black"/>
              </a:rPr>
              <a:t>Chemistry Issues:</a:t>
            </a:r>
            <a:r>
              <a:rPr b="1" lang="en-US" sz="1800" spc="-1" strike="noStrike">
                <a:solidFill>
                  <a:srgbClr val="006600"/>
                </a:solidFill>
                <a:latin typeface="Arial Black"/>
              </a:rPr>
              <a:t> Call Health Department to find out tests for sick building e.g. in humidity studies, harmful gases,, etc. CO, CO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Arial Black"/>
              </a:rPr>
              <a:t>2</a:t>
            </a:r>
            <a:r>
              <a:rPr b="1" lang="en-US" sz="1800" spc="-1" strike="noStrike">
                <a:solidFill>
                  <a:srgbClr val="006600"/>
                </a:solidFill>
                <a:latin typeface="Arial Black"/>
              </a:rPr>
              <a:t>, particulates, water analysis, investigations of Brownian motion; Rn detection, condensation patter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Black"/>
              </a:rPr>
              <a:t>Physics Issues:</a:t>
            </a:r>
            <a:r>
              <a:rPr b="1" lang="en-US" sz="1800" spc="-1" strike="noStrike">
                <a:solidFill>
                  <a:srgbClr val="a50021"/>
                </a:solidFill>
                <a:latin typeface="Arial Black"/>
              </a:rPr>
              <a:t> measurement of electromagnetic fields, air flow patterns, R factors, temperature of the build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 Black"/>
              </a:rPr>
              <a:t>Examples of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Arial Black"/>
              </a:rPr>
              <a:t>Group 4 Project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Natural &amp; Synthetic Fi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400 m Running R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 study of an Estu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School Swimming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aper Recyc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effect of Caffeine on the Human 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etroleum and the Automo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Classroom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ransport to 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p 4 Project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 Garb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healthy is our Schoo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lution in City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e Energy Sources for the Sch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er / W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e St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ea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ience of Toys / Thrill R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idence of particip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Tahoma"/>
              </a:rPr>
              <a:t>Individual-statement written by the student about his/her own individual contributions- (Your Journal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Individual-ABSTRAC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Group-poster produced by the group that includes the participation of the candidate whose work is being s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START YOUR GROUP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Form a group of 4 that contains at least one biologist, one chemist, and one physic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cide on your broad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Generate ideas for a focussed research 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Expectations for the Gro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rch 28 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April 9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April 30,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June 12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June 13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Groups chosen, broad topic decided, ideas for Focussed research qu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Approval Form Sub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lan submitted to IB teac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6600"/>
                </a:solidFill>
                <a:latin typeface="Tahoma"/>
              </a:rPr>
              <a:t>Poster D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9900"/>
                </a:solidFill>
                <a:latin typeface="Tahoma"/>
              </a:rPr>
              <a:t>Poster Presentation 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iloso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0113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ientific investigations of today involv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eamwork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which , like the Group 4 Project, is interdisciplina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underpinnings of teamwork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mmunication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respect for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Nature of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322000"/>
            <a:ext cx="849780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248"/>
                </a:solidFill>
                <a:latin typeface="Arial Black"/>
              </a:rPr>
              <a:t>Collaborative experi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Interdisciplinary co-ope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‘</a:t>
            </a: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Real Science’ ac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 Black"/>
              </a:rPr>
              <a:t>Processes, not Produ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velop and apply information and communication technology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Raise awareness of the moral, ethical, social, economic and environmental im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Gain an appreciation for the overarching nature of the scientific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6320" y="380880"/>
          <a:ext cx="914400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914400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934320" y="522612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33526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6 -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Planning (2 – 3 hours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6564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haring of Information &amp;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the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Research 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Specific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Develop a Hypo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haring of information &amp;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finition of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475000"/>
            <a:ext cx="849780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Develop subject-specific questions to answer and 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a subject specific hypothe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Black"/>
              </a:rPr>
              <a:t>Define specific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Action (6 - 9 hours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eparate subject investig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As individuals or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Black"/>
              </a:rPr>
              <a:t>Each science requires its own investi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aluation (2 – 3 hour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Sharing findings (successes, failures and prog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Format: Science Fair, Po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8ae"/>
                </a:solidFill>
                <a:latin typeface="Arial Black"/>
              </a:rPr>
              <a:t>Personal Sk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4120" y="2209680"/>
          <a:ext cx="3809880" cy="37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09680"/>
                    <a:ext cx="3809880" cy="37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14:37:08Z</dcterms:created>
  <dc:creator>Upper Canada College</dc:creator>
  <dc:description/>
  <dc:language>en-US</dc:language>
  <cp:lastModifiedBy>TDSB</cp:lastModifiedBy>
  <cp:lastPrinted>2009-04-22T19:24:48Z</cp:lastPrinted>
  <dcterms:modified xsi:type="dcterms:W3CDTF">2008-03-19T15:58:30Z</dcterms:modified>
  <cp:revision>44</cp:revision>
  <dc:subject/>
  <dc:title>PowerPoint Presentation</dc:title>
</cp:coreProperties>
</file>